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CBED-3FAA-44D1-8E75-B3FA829F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A62-D2E9-4C91-89E0-F30B898A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7E5-E5AB-43B6-949F-C147D8E3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C42D-AE80-4603-8473-140C4456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624-6708-4BA2-9536-A3F99854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E18-926E-42FE-860E-7E8C8C22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18C-7884-4084-B89B-03DE9070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577-AB02-4AA7-882B-D0239ECB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DC4-4C35-48F5-885F-0C8D2941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84B-57D3-479B-9105-221A2B56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FEE4-03E2-40AC-9AB3-2520EB9F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D8B4-B705-406F-81E0-5C5324DF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A6A4-EF2E-49EF-97B7-F675FA393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imgurl=http://www.souturista.com.br/haiti1.jpg&amp;imgrefurl=http://www.souturista.com.br/viagem/fotoshaiti.htm&amp;h=366&amp;w=562&amp;sz=33&amp;tbnid=yMQh2bHKvFzliM:&amp;tbnh=87&amp;tbnw=133&amp;prev=/images%3Fq%3Dhaiti&amp;hl=pt-BR&amp;usg=__FWh4edRAbiuRz2_ngzeTP87Mlio=&amp;ei=ja6JStKTI8qQuAe4gvWNCA&amp;sa=X&amp;oi=image_result&amp;resnum=4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imgurl=http://wwp.greenwichmeantime.com/images/time/caribbean/haiti.jpg&amp;imgrefurl=http://wwp.greenwichmeantime.com/time-zone/caribbean/haiti/map.htm&amp;h=328&amp;w=418&amp;sz=35&amp;tbnid=IXI-lIRmEwmJiM:&amp;tbnh=98&amp;tbnw=125&amp;prev=/images%3Fq%3Dhaiti&amp;hl=pt-BR&amp;usg=__3c8mUdNbn-aFC9pUppZSK8CsWEg=&amp;ei=ja6JStKTI8qQuAe4gvWNCA&amp;sa=X&amp;oi=image_result&amp;resnum=5&amp;ct=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ipae.com.br/pub/pt/jee/imagen/bandeira_haiti.gif&amp;imgrefurl=http://www.ipae.com.br/pub/pt/jee/3104/principal.htm&amp;usg=__1usjmrOTNHpvu4g5Vy9AF2Eo_JM=&amp;h=302&amp;w=453&amp;sz=6&amp;hl=pt-BR&amp;start=7&amp;um=1&amp;tbnid=V4z-SQmhoMEBpM:&amp;tbnh=85&amp;tbnw=127&amp;prev=/images%3Fq%3Dbandeira%2Bdo%2Bhaiti%26hl%3Dpt-BR%26sa%3DX%26um%3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transicao.org/images/t3/14_haiti.jpg&amp;imgrefurl=http://www.transicao.org/noticia.php%3Fid%3D90&amp;usg=__SSH3uiTEIsxJQmMcTXOmYRy_A_s=&amp;h=365&amp;w=480&amp;sz=58&amp;hl=pt-BR&amp;start=16&amp;um=1&amp;tbnid=Z011hpB0oMgjdM:&amp;tbnh=98&amp;tbnw=129&amp;prev=/images%3Fq%3Dbandeira%2Bdo%2Bhaiti%26hl%3Dpt-BR%26sa%3DX%26um%3D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t.wikipedia.org/wiki/L&#237;ngua_francesa" TargetMode="External"/><Relationship Id="rId2" Type="http://schemas.openxmlformats.org/officeDocument/2006/relationships/hyperlink" Target="http://pt.wikipedia.org/wiki/Crioulo_haitiano" TargetMode="External"/><Relationship Id="rId3" Type="http://schemas.openxmlformats.org/officeDocument/2006/relationships/hyperlink" Target="http://pt.wikipedia.org/wiki/Caribe" TargetMode="External"/><Relationship Id="rId4" Type="http://schemas.openxmlformats.org/officeDocument/2006/relationships/hyperlink" Target="http://pt.wikipedia.org/wiki/Hispaniola" TargetMode="External"/><Relationship Id="rId5" Type="http://schemas.openxmlformats.org/officeDocument/2006/relationships/hyperlink" Target="http://pt.wikipedia.org/wiki/Rep&#250;blica_Dominicana" TargetMode="External"/><Relationship Id="rId6" Type="http://schemas.openxmlformats.org/officeDocument/2006/relationships/hyperlink" Target="http://pt.wikipedia.org/wiki/Bahamas" TargetMode="External"/><Relationship Id="rId7" Type="http://schemas.openxmlformats.org/officeDocument/2006/relationships/hyperlink" Target="http://pt.wikipedia.org/wiki/Cuba" TargetMode="External"/><Relationship Id="rId8" Type="http://schemas.openxmlformats.org/officeDocument/2006/relationships/hyperlink" Target="http://pt.wikipedia.org/wiki/Turks_e_Caicos" TargetMode="External"/><Relationship Id="rId9" Type="http://schemas.openxmlformats.org/officeDocument/2006/relationships/hyperlink" Target="http://pt.wikipedia.org/wiki/Turks_e_Caicos" TargetMode="External"/><Relationship Id="rId10" Type="http://schemas.openxmlformats.org/officeDocument/2006/relationships/hyperlink" Target="http://pt.wikipedia.org/wiki/Turks_e_Caicos" TargetMode="External"/><Relationship Id="rId11" Type="http://schemas.openxmlformats.org/officeDocument/2006/relationships/hyperlink" Target="http://pt.wikipedia.org/wiki/Navassa" TargetMode="External"/><Relationship Id="rId12" Type="http://schemas.openxmlformats.org/officeDocument/2006/relationships/hyperlink" Target="http://pt.wikipedia.org/wiki/Porto_Pr&#237;ncipe" TargetMode="External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t.wikipedia.org/wiki/Haiti" TargetMode="External"/><Relationship Id="rId2" Type="http://schemas.openxmlformats.org/officeDocument/2006/relationships/hyperlink" Target="http://pt.wikipedia.org/wiki/Ilha" TargetMode="External"/><Relationship Id="rId3" Type="http://schemas.openxmlformats.org/officeDocument/2006/relationships/hyperlink" Target="http://pt.wikipedia.org/wiki/1000" TargetMode="External"/><Relationship Id="rId4" Type="http://schemas.openxmlformats.org/officeDocument/2006/relationships/hyperlink" Target="http://pt.wikipedia.org/wiki/Ano" TargetMode="External"/><Relationship Id="rId5" Type="http://schemas.openxmlformats.org/officeDocument/2006/relationships/hyperlink" Target="http://pt.wikipedia.org/wiki/Antes_de_Cristo" TargetMode="External"/><Relationship Id="rId6" Type="http://schemas.openxmlformats.org/officeDocument/2006/relationships/hyperlink" Target="http://pt.wikipedia.org/wiki/5_de_dezembro" TargetMode="External"/><Relationship Id="rId7" Type="http://schemas.openxmlformats.org/officeDocument/2006/relationships/hyperlink" Target="http://pt.wikipedia.org/wiki/1492" TargetMode="External"/><Relationship Id="rId8" Type="http://schemas.openxmlformats.org/officeDocument/2006/relationships/hyperlink" Target="http://pt.wikipedia.org/wiki/Crist&#243;v&#227;o_Colombo" TargetMode="External"/><Relationship Id="rId9" Type="http://schemas.openxmlformats.org/officeDocument/2006/relationships/hyperlink" Target="http://pt.wikipedia.org/wiki/Ocidente" TargetMode="External"/><Relationship Id="rId10" Type="http://schemas.openxmlformats.org/officeDocument/2006/relationships/hyperlink" Target="http://pt.wikipedia.org/wiki/Pa&#237;s" TargetMode="External"/><Relationship Id="rId11" Type="http://schemas.openxmlformats.org/officeDocument/2006/relationships/hyperlink" Target="http://pt.wikipedia.org/wiki/Rep&#250;blica_Dominicana" TargetMode="External"/><Relationship Id="rId12" Type="http://schemas.openxmlformats.org/officeDocument/2006/relationships/hyperlink" Target="http://pt.wikipedia.org/wiki/Haiti" TargetMode="External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133720"/>
            <a:ext cx="65534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http://www.souturista.com.br/viagem/fotoshaiti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2133720"/>
            <a:ext cx="6481800" cy="43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da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http://wwp.greenwichmeantime.com/time-zone/caribbean/haiti/map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484280"/>
            <a:ext cx="8136000" cy="46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eio de tantas maravilh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e tant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br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Everyday life of the average Haitian"/>
          <p:cNvPicPr/>
          <p:nvPr/>
        </p:nvPicPr>
        <p:blipFill>
          <a:blip r:embed="rId1"/>
          <a:stretch/>
        </p:blipFill>
        <p:spPr>
          <a:xfrm>
            <a:off x="1763640" y="270828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í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700280"/>
            <a:ext cx="8136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é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700280"/>
            <a:ext cx="8207280" cy="44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Hait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em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ê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Haït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; no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ioulo haitian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yit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 é um país das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araíb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que ocupa o terço ocidental da ilha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ispaniol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possuindo uma das duas fronteiras terrestres das Caraíbas, a fronteira que faz com a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epública Dominican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a leste. Além desta fronteira, os territórios mais próximos são as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aham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ub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 noroeste,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Turks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e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Caic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 norte, e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Navass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 sudoeste. A capital é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Porto Príncip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ória do Hait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istória do Ha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primeiros humanos no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it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também conhecido com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La Española'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Hispaniol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hegaram à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lh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há mais de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00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n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possivelmente 7000 aC. Em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5 de dezembr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149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Cristóvão Colomb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o viajar para o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cide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tingiu uma grande ilha. Mais tarde passou a ser chama de São Domingos; dividida entre dois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aís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a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República Dominican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o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ait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, é a segunda maior das Grande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ntilh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om a superfície de 76.192 km² e cerca de 9 milhões de habitantes. Com 640 km de extensão entre seus pontos extremos, a ilha tem formato semelhante à cabeça de um caimão (pequeno crocodilo abundante na região), cuja "boca" aberta parece pronta a devorar a pequena ilha de Gonâve. O litoral norte abre-se para o oceano Atlântico, e o sul para o mar do Caribe (ou das Antil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9:25:22Z</dcterms:created>
  <dc:creator>Escola Filinto</dc:creator>
  <dc:description/>
  <dc:language>en-US</dc:language>
  <cp:lastModifiedBy>Escola Filinto</cp:lastModifiedBy>
  <dcterms:modified xsi:type="dcterms:W3CDTF">2009-08-17T20:03:28Z</dcterms:modified>
  <cp:revision>2</cp:revision>
  <dc:subject/>
  <dc:title>Haiti</dc:title>
</cp:coreProperties>
</file>